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D67-A34E-413F-8BEA-E5B86B12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966-FD6C-4789-A372-53949D48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E78EA-5425-42A0-87D6-7131E053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8741C-851A-4EF6-924A-8142E59F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40FD2-3390-46AB-A1EA-43EAA205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77CBE-968E-4D2A-A24D-B888D46B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37FFA-18BE-4E4A-AD71-1AF10046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B58AD-868C-4C45-8290-EE0D8B24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EC7E8-E48F-4157-A1E3-6F3A7A3F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5F957-DF69-41A2-8376-3C755766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FB583-0267-4146-84B0-A5385E4B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A0FB3-FCC7-456D-857E-3B4B0657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EE1-A97E-42A3-8AD9-1449560A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1D815-D086-417D-8243-0EF682AD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F7684-C861-432C-A1CF-8925EF97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47EE1-1D67-4A11-A2EF-9A085F29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1F29D-3675-4EBF-BD3F-7F84FCE6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791B2-0B06-41CA-92B5-2636FD85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D59ED-10E5-4CD2-82DE-9F500C61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AF67C-2065-4AD3-9017-EBCC86D9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CDBCF-29EB-45C4-8F68-6E1EE4F3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94564-8C80-4BFE-9A8F-2475833A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54C1E-8029-4876-B335-B8C9C7BC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B99-EBFA-494F-BEAF-0FF2DB93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35EFE-3116-433C-B104-6B30C007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90D5E-12F4-41E0-9479-CDF9E754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320A8-C65C-4C9E-89BF-A6126AA4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2A99B-D233-4B87-A773-B8A30755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A0B56-E20F-459F-A642-A77632DD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B9AAC-E3F5-4442-A170-78AD1771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15776-0964-45D7-8526-35AC6312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C7040-3856-42AC-A318-C0FD6AFE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04187-6085-4B9E-BCFB-7C6B2B63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DD35F-9A9D-473B-B01B-982ABB9E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136F-4771-49E6-A983-D6EC3034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C5E3C-2E65-4CA9-901E-2655E7CC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2DB70-3D44-450A-BFA9-5512130F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A1FFA-6FB1-4E5B-8A9D-11582EF6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9EE7E-CFC4-4452-8BB5-6711D807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56C88-227E-42E1-B7AB-27413C95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30590-D537-4F86-B94B-2726C2E2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C0BC2-59EC-443B-A6F0-F945ABA3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465BD-2917-4AF3-B721-58DDF93A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F431D-2BD5-485F-8298-1EBF13CB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72E13-1A97-4B01-96F5-1F38FCD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8E02-E604-4A55-B449-7FD7885C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574FE-4937-4E73-BD2D-C1584DDF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4EDB6-820A-4C72-AF66-E37B2E26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944B4-8BD8-4288-BB38-5F5C477B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926A0-2DB2-49D2-ADE7-DF97D55A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6926E-01CE-4DEF-AA83-A6EA21EB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66E7-848D-4BB1-9B3E-1DBBB436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AA95-4D6C-4DD7-9A5F-3CB840B4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E5EA-7645-497E-BDA1-F5DAE92A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A2A3-C0C0-4FCF-8F22-F9DBD3B3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C2E8-791C-46D8-A644-1BF1FE5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8AF-D0B1-4B78-BBBD-E755A5F0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C35C-D291-4FB8-9551-34E819DB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BF40-3D42-4B72-A2E4-D51AE3DA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717A-A85B-4CDD-89E4-30CAB422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0215-414D-4434-B4D8-FB6E6140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DA8B-611D-41B0-B248-BEBABB05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D9EA-A855-4EB3-970B-2D876329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F1102-D9B3-4800-A2B4-F19DCC07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AE75D-13C7-4104-BEA0-9E9A2531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C3B6-2818-49EE-BA15-198A787D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06E06-6B54-43CA-AD18-DBD687E2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7DB-93D8-4FC3-9D28-F96CDCE8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31C1-761F-4548-8575-E224B8DC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BF99-FE31-42BC-BC82-E7064E6B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1F869-DF8C-4463-AD17-C9C37B6D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B919-12B4-4625-8501-5A7C4597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0FED-65E8-4A33-9100-18A7B2E2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48BE-BACE-45F9-95BC-D6DA8F05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5743-2D1F-4EA9-81CE-8A6299CE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79C7B-735C-4261-B142-8D481213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CF03C-090B-406A-A8E3-84D8B208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D2FB4-8118-4F57-8AD4-F41EAE0D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4F6-E9D0-4F18-902F-14FB79AA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0E858-EA82-46AD-AA2B-17EEC2F1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36B6E-B94D-43F1-AF98-624525E5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32A66-F9C4-4597-8026-FF2F1299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A112E-D537-49C5-B428-7133DAF0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28CC-27B6-4470-B3C0-3FD0578B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39D3C-FA09-45B3-B3CE-AB6FA628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CA4E5-483C-4A98-AD70-F5DBC051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AB014-3356-47B6-878C-13641EB5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4FF5-994C-41AA-B910-8FB50768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C47ED-A487-4CAB-B27A-448E537C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263-8DC6-47EE-9E9A-93B659D7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39343-C9C7-45A6-B441-0D88BA8D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4462A-4901-4AA3-971C-70C19EE7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4D7DA-85BC-4B9A-9CBB-33FF70A7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09179-0F62-4A98-9F5B-DB221EAA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F3C8A-2858-4E25-B70E-19A6B67C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EE6E5-804E-427D-8D27-AA41B8DE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022C4-934C-47EE-88D2-CAA25C78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FC7F6-C472-4B9B-B3C3-75F92749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A1C6D-9429-41AB-9B0C-B1D35821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08CEF-CA10-497A-A1B3-13D23D2D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4D1-E458-4014-9056-E7FD8020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53123-38A0-45C7-B560-0AD5732E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CE9ED-0E4B-4C94-9F62-1A526F25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56CD3-1EB6-4AE2-9BFA-C0FA4423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29E84-AF1A-4714-B825-E00355B1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2F00B-02C4-4F80-A546-06498766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EB2F4-6F08-4412-93AE-20344DA9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C1BAA-6B83-437E-9916-5CDE7BF8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19F9E-061C-45F1-8D6A-2B6AC616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649EE-7703-4CC7-9995-393BC41A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9B640-F467-4CA3-9F93-E09E3F92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D14-EDCA-40E8-9C6B-D3BDE018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DEB47-1681-4B07-917E-01F62105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EA400-83E3-4458-B01D-BE672480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C4616-28AA-424D-864A-15A44B58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FD427-6AB4-46BA-9652-CDB2DE84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3519F-506D-4E6E-88B6-B3C3331F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6EC41-6375-4F0E-A2E3-2FEE9B85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921BE-AE01-445C-9CD1-D62BAD4A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E47C9-4628-47F3-A98C-64A24657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86B7D-279F-4FBD-8F6A-0D084FE3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23212-656D-459C-B7E8-DACCE40B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E77-EF28-4E0D-86E1-F35ED991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A1E0C-A61A-4AF1-A623-CACB135F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41772-3B51-4FB5-B816-000FB870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A793B-B99F-469D-B079-AF0E25A6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AB519-070E-4CB4-B348-7A50F4FD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71261-4814-4564-BC6E-207427E1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C6B81-196B-4156-808E-25BD3C81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1F268-4CC0-40F2-80BC-8C59B42A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A68B0-2BE0-4278-AAB6-9086CC08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2B9F8-5292-4BF6-9AD3-6F5B5318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E9AD0-CA3A-4C78-B8C7-3423901B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9B1-D510-44B7-852C-9080D557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E32C9-8E7C-4836-B560-EA91FBE7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4DD05-F798-43A3-831B-6184C42A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75C4C-3D04-4D8B-B9B0-B896A4E1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5601E-EAF9-48C4-997F-2A7FAEDD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BA522-908F-419B-B455-84B33A53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46296-6B84-4407-96D5-D297F8D1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886D5-74CB-485F-BA87-03CD92BC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E7047-3C50-43EB-8D50-A32A3F69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FF303-B7AA-4F9A-BFB0-0D514071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90823-FE1B-43FE-9C0C-09DD1B48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00DE-8B77-486C-8914-5CBC10E049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48C0-5B97-4B70-934E-C026742F8B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4ED5-EBDC-4828-A93B-B65FE382FF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8934-F1AF-434D-9CDF-C1D90D0269F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E88A-AFEE-4FE2-8FFB-1D621E58E6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2627-9244-4375-BC84-680711AA4F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F45F-EFC1-41EB-B065-DECE6297DD6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43D7-EF4B-498A-8899-6CF48BDD55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FBAC-ADFC-4C6A-B333-7BC8AE2D6D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EE41-321E-4279-8428-C749205A1A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2CB5-1A31-4B2B-80BD-6D6CAB4D7A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E849-6091-405E-9E72-DC26B31D31D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78 Pán Boh sa každému do srdca dí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sa každému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rdca dí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dí, kto lásku v ň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a kto hnev skrý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blížnych miluje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Pána prac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nú má cest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Božiemu mest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sa každému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rdca dí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dí, či radosť v ň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žiaľ sa skrýv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utný je, kto je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mu dá radosť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kto vždy ho chvá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 láske stá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oh sa každému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rdca dí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dí, kto dobro v ň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to zlo skrýv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jemu v mlad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dá z vďač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mu on d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ynovské práv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52:51Z</dcterms:modified>
  <cp:revision>80</cp:revision>
  <dc:subject/>
  <dc:title>Je veľký náš Pán, on slávy je Kráľ Nech do všetkých strán  spev vrúcnych znie chvál.</dc:title>
</cp:coreProperties>
</file>